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009061"/>
        <c:axId val="32607524"/>
      </c:barChart>
      <c:catAx>
        <c:axId val="970090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07524"/>
        <c:crosses val="autoZero"/>
        <c:auto val="1"/>
        <c:lblAlgn val="ctr"/>
        <c:lblOffset val="100"/>
        <c:noMultiLvlLbl val="0"/>
      </c:catAx>
      <c:valAx>
        <c:axId val="326075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090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5CC3-C298-47A9-BC51-E37FAD7C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E215-C225-4941-85C5-BD8767A1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E3A3-81C5-4347-89ED-FA4F6530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7BB3-5A70-4B04-8209-BC34C208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AF69-C13C-458B-9D33-E0C1582A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2103-0E7F-4714-B499-690E2A80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E0B5-44FF-4A76-870D-1CFAA319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9FA7-0937-4D90-84FA-7AAC6AB8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23BB-D352-46E6-9226-50A45219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AD22-A3F4-4B9C-9870-DF432E3B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E957-68EB-46DF-971E-8FB4C639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CC3-616D-48E8-B68B-D8F4FDD3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23731-E9FA-4C9C-962C-5158429349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