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588679"/>
        <c:axId val="35887638"/>
      </c:barChart>
      <c:catAx>
        <c:axId val="715886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87638"/>
        <c:crosses val="autoZero"/>
        <c:auto val="1"/>
        <c:lblAlgn val="ctr"/>
        <c:lblOffset val="100"/>
        <c:noMultiLvlLbl val="0"/>
      </c:catAx>
      <c:valAx>
        <c:axId val="358876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886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3A27-821B-4C09-9FD9-1260175D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C068-104E-47C1-91D0-61D63666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B204-D142-4337-A6A8-1AA9B268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9A01-F401-4A02-979D-6C91D8764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DED0-D970-4774-9A04-433A4A9C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9A47-8850-40A9-A995-28ECC741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8669-D2BE-4AC2-9222-6E874893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247F-2F86-473B-A578-E9B82A86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4ADD-5C54-4406-989D-7AF9F93F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AF8C-3B8A-4152-BC2B-D2C0A96A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0A57-7D34-47BF-BF4B-64DAEDD6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876A-2244-4185-A52F-AF78800B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4132B-4503-4E69-9199-A7F89D6FE0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