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1775"/>
        <c:axId val="99595613"/>
      </c:barChart>
      <c:catAx>
        <c:axId val="93117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95613"/>
        <c:crosses val="autoZero"/>
        <c:auto val="1"/>
        <c:lblAlgn val="ctr"/>
        <c:lblOffset val="100"/>
        <c:noMultiLvlLbl val="0"/>
      </c:catAx>
      <c:valAx>
        <c:axId val="99595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17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A1AB-5D01-4E30-BBFD-F83EAC64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13C-A140-4D41-9EB0-26CC87CC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70C-51A6-420F-BBCF-2AD4A88A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56D-F5FC-4796-B8AD-2EA332B2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A80-3785-4799-910A-823E81F1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3D87-1757-4A20-B85D-04AFFDB7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FD1C-6E47-4633-9E78-89610656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5CE2-97D2-4A5D-A6BD-1F7D1EE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2E57-8C30-4845-A054-102A3A1E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D7B9-A60A-4813-AAF8-45B3931C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F6F-BBE7-46FF-9801-C7E53D4D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3B4-FDC6-4508-8A95-DB3CFFAC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16020-AF76-4C5C-BF95-BD5412F01B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