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07527"/>
        <c:axId val="74217977"/>
      </c:barChart>
      <c:catAx>
        <c:axId val="10207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17977"/>
        <c:crosses val="autoZero"/>
        <c:auto val="1"/>
        <c:lblAlgn val="ctr"/>
        <c:lblOffset val="100"/>
        <c:noMultiLvlLbl val="0"/>
      </c:catAx>
      <c:valAx>
        <c:axId val="74217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07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5C1-79E9-444A-A771-506B99DB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970E-1B81-493C-B16E-6B4F761C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A01-B4D8-449B-A21F-A501C0CE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8AA-2FAD-446E-88DD-2237BB96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754-F58C-444E-8953-0E155982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38F-B76C-45E6-B037-8C1A8E54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FD7-80E3-4FBF-85EC-85B4F1C8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F5C-3ABE-4FB6-8EA4-482A0562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353-1916-4327-8B17-82536F5E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F2E-39C2-47E8-BF81-0158A818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AFE-4E2B-4C74-83B0-E230101A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034F-9FE5-45E9-8973-9BE21CA2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2FF2A-8B16-4D86-B6E9-78B1C16BDB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