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65902"/>
        <c:axId val="56028254"/>
      </c:barChart>
      <c:catAx>
        <c:axId val="25165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28254"/>
        <c:crosses val="autoZero"/>
        <c:auto val="1"/>
        <c:lblAlgn val="ctr"/>
        <c:lblOffset val="100"/>
        <c:noMultiLvlLbl val="0"/>
      </c:catAx>
      <c:valAx>
        <c:axId val="56028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65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C0B-A97C-4F11-A6FE-0DD42462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966-51F6-4D1A-822C-FBE1029B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381-C3C5-4C89-9CBC-536758AA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EFE-E8C3-47AF-901C-3AB4968A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DE6-509B-442E-B0C3-535B6A05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827-51DC-4174-9E39-A18D80D7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10C-4665-4491-A62F-76FDCFF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FEE-8277-4149-B6D7-85829E8A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283-BB00-4FF3-8121-2F206B8B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D70-3898-4242-99EE-015E9FAB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1E2-8B79-469C-A521-F9AFD21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7DB-8910-4B1B-928B-B4429FA4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3CECC-6F50-4A64-BF60-30700309F5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