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80973"/>
        <c:axId val="58233259"/>
      </c:barChart>
      <c:catAx>
        <c:axId val="80280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33259"/>
        <c:crosses val="autoZero"/>
        <c:auto val="1"/>
        <c:lblAlgn val="ctr"/>
        <c:lblOffset val="100"/>
        <c:noMultiLvlLbl val="0"/>
      </c:catAx>
      <c:valAx>
        <c:axId val="58233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80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4E9-715B-46B3-BD07-FBED4EC0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A1B-A755-4A9C-935F-0A36209F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D76-8320-4393-BB36-3B887A84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420-3A13-42AE-B4E4-A5EEE471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D21-0DA4-4C10-9CE5-D2B280BB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C09-23E4-43EB-9BE0-E6BA0AB7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480-F508-4DEB-AD10-454E5E7A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4C8-9810-49AC-B371-EB23006F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17E-7672-46CA-83BA-51A4FC31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929-2338-41DF-8825-A8AFE596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B4A-281A-4821-B514-71366162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A47-5E2A-4588-85C0-3251BE0E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36BBC-DB9D-4023-983B-8CB0DDD99A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