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61353"/>
        <c:axId val="19301244"/>
      </c:barChart>
      <c:catAx>
        <c:axId val="14661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01244"/>
        <c:crosses val="autoZero"/>
        <c:auto val="1"/>
        <c:lblAlgn val="ctr"/>
        <c:lblOffset val="100"/>
        <c:noMultiLvlLbl val="0"/>
      </c:catAx>
      <c:valAx>
        <c:axId val="19301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1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D46-340C-4956-8056-B6CC5D78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6F3-B144-462C-A451-EFE0DC88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87F-F691-4FCD-9888-5E9BF376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A6C-66C7-4FE4-8A73-7E20E344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0EE-12AB-4F21-AA48-FB78E5E4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8E7-8BFE-4603-894B-462591C5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A2C-EAE1-4DB4-9D5C-EFF2C3FB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CB0-6FEC-48F6-85C6-C7D4B73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4E5-5B60-40F0-AD8D-1D16373B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700-BC5D-4282-850C-57F2D73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747-F0C2-4059-B82F-AE0D9B42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72B-C6AA-4D70-8208-6A7EF672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E25EE-051B-467A-9488-0879F13168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