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42292"/>
        <c:axId val="40081870"/>
      </c:barChart>
      <c:catAx>
        <c:axId val="50442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1870"/>
        <c:crosses val="autoZero"/>
        <c:auto val="1"/>
        <c:lblAlgn val="ctr"/>
        <c:lblOffset val="100"/>
        <c:noMultiLvlLbl val="0"/>
      </c:catAx>
      <c:valAx>
        <c:axId val="40081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42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32E-4AC9-4FAA-A2B1-43FC183A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5EF-2AF6-4BCF-8ACE-A1CDC006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FEB-7EBA-4A93-90C1-D77F9B9E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FB8-9825-4229-A94A-E3F1DBF7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5E7-5EDB-46A6-B9B1-AD973E13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0CB-3519-4950-8CC5-0FC68CC1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FF0-BF28-4F3C-A177-664CB024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E45-885E-4351-8C7F-9023ACD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033-DA4C-4139-873A-BFAED3C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588-75A9-48C0-9E6C-1EEF4469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485-B537-47B4-A607-FD2CBBA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369-C6DA-4CBF-9AC7-3E241A1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6F64-9AAA-44F5-85D5-C035D422FB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