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07798"/>
        <c:axId val="39184821"/>
      </c:barChart>
      <c:catAx>
        <c:axId val="87607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4821"/>
        <c:crosses val="autoZero"/>
        <c:auto val="1"/>
        <c:lblAlgn val="ctr"/>
        <c:lblOffset val="100"/>
        <c:noMultiLvlLbl val="0"/>
      </c:catAx>
      <c:valAx>
        <c:axId val="39184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7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785-092A-463E-9EA7-F3B8E253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EB0-2848-45C1-8892-77B4D5FF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975-C728-414F-87FE-D5E89B11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77A-BE6C-49F6-84EB-C2E3FB48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EEA-5D9C-4976-9891-7480B017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CA1-3756-4C51-9E1D-F7785C4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D29-E3F0-4317-86A9-FECF143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EA0-8D93-41DB-9CD3-5E184612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A25-B469-46F7-B431-88C6CBC5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49D-B188-4272-BC7B-B33C547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A9D-324A-4F0A-92ED-F40DF4E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F5A-C829-4980-97D6-C3B3EC2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5C8CB-8592-48F5-8CC5-C973992E04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