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552641"/>
        <c:axId val="42532108"/>
      </c:barChart>
      <c:catAx>
        <c:axId val="815526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532108"/>
        <c:crosses val="autoZero"/>
        <c:auto val="1"/>
        <c:lblAlgn val="ctr"/>
        <c:lblOffset val="100"/>
        <c:noMultiLvlLbl val="0"/>
      </c:catAx>
      <c:valAx>
        <c:axId val="425321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5526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D552-304F-4DFA-A0E3-DC6FF3FBF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D7D5-6C17-446E-A906-7BA75F96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A67C-950D-4749-8D90-8AACB4670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05DE-F383-4A23-8C85-C96906BA7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7D7C-3795-4AF2-9121-34AA9A49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E54B-6380-40C4-9FED-22A73222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16FA-F0C0-4B6A-8EE4-1162C8DA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9112-1ECE-4871-B84F-B7EE7541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4315-B20F-4D45-8C5C-8D1A7F29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6034-BCF8-4696-A3FF-5DA582DD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C5EA-39EF-441F-8080-023DC06D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E513-710B-418D-BC3D-7D8546FE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7107D0-2F8A-4F76-AA7F-E7941F412F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