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11234"/>
        <c:axId val="49382550"/>
      </c:barChart>
      <c:catAx>
        <c:axId val="58311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82550"/>
        <c:crosses val="autoZero"/>
        <c:auto val="1"/>
        <c:lblAlgn val="ctr"/>
        <c:lblOffset val="100"/>
        <c:noMultiLvlLbl val="0"/>
      </c:catAx>
      <c:valAx>
        <c:axId val="493825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11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3C0-2868-43E3-B0A7-B4145789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7CA-B0E4-4CB2-B29A-12FFECE4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76C-2813-4B78-B216-9A97825C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73B-D333-4465-9E91-F11CD4E9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AA2-9A8C-4A5C-8B4F-E2628C22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A20D-464F-4E8C-8747-F2663F6C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76BA-F46C-4B7B-BAF9-219744E4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41F-EB73-4352-9FB6-FCAE2755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F2D-194F-4584-802A-0A0BB0C9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FA3-C9AF-4ADC-A384-92AC03FB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9A9-E812-4608-B4BF-9740382E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9F3-FAF0-43FA-A941-1284DC9B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5D297-9960-4CB2-ABC7-32ECA92CF3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