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653354"/>
        <c:axId val="65659448"/>
      </c:barChart>
      <c:catAx>
        <c:axId val="436533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59448"/>
        <c:crosses val="autoZero"/>
        <c:auto val="1"/>
        <c:lblAlgn val="ctr"/>
        <c:lblOffset val="100"/>
        <c:noMultiLvlLbl val="0"/>
      </c:catAx>
      <c:valAx>
        <c:axId val="656594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6533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467-2082-40AE-91C1-234F6CEE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4ADA-7EFB-4309-8C14-A9802C3A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7D6C-945B-445B-B98F-66DBD6A6B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BB8-C18F-4C75-8FAD-4B6C12EA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A39C-C64E-4B22-AD9D-7B9992C0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E2B1-6F19-489F-8C27-27BB552E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73A1-B82B-463F-A68A-9AE9DB1C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4228-0087-49E6-AA49-17314344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704D-4B71-48B6-936D-CE7590D7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109C-4CDF-4AE7-AA09-5E8A278A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A642-017F-4097-BCD2-70EA6598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C144-FB14-4F6E-A042-B74FE045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353EF-1DF8-44E0-BF0E-47117E7A41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