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4728"/>
        <c:axId val="12453336"/>
      </c:barChart>
      <c:catAx>
        <c:axId val="95504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3336"/>
        <c:crosses val="autoZero"/>
        <c:auto val="1"/>
        <c:lblAlgn val="ctr"/>
        <c:lblOffset val="100"/>
        <c:noMultiLvlLbl val="0"/>
      </c:catAx>
      <c:valAx>
        <c:axId val="12453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4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67C-0D44-4323-894E-4647FD02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CDA-9D72-4104-B7A8-11FBEBFD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817-169D-40E8-8048-F156C5B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8DF-D7E5-4555-9091-A4E1C50E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C06-1EED-41AD-9822-B4D9840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44D-57EB-426D-9949-DDA3372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25C-43EB-4AE8-9149-8A3F4A7E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A97-8A3A-4F51-8E94-852BCA4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E65-57E8-4FB5-AFFB-D73F023C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7E4-7DE6-458F-BE7D-8CCEEC4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F2F-7A43-4A38-B0D6-B360AC3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312-8DF0-4C9D-85BF-5F5E261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056E2-0856-4081-A58F-34F9E52C2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