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25736"/>
        <c:axId val="77221004"/>
      </c:barChart>
      <c:catAx>
        <c:axId val="65925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21004"/>
        <c:crosses val="autoZero"/>
        <c:auto val="1"/>
        <c:lblAlgn val="ctr"/>
        <c:lblOffset val="100"/>
        <c:noMultiLvlLbl val="0"/>
      </c:catAx>
      <c:valAx>
        <c:axId val="77221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25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778-8431-4824-9335-3C36B806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C66-8934-405A-A707-F8F3F929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388-EF8F-46CB-9E00-754412ED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207-7795-4762-AB2F-3E98D2A6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5CE-74FA-4193-BE7A-FDAA9B22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821-2281-4E0E-B5DD-A9912609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E46-E5CB-4633-A2B1-C3D575EE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174-C419-401E-9B10-54F8B151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700-0253-4A5E-ADE6-B8D62D8F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0B3-DDB7-4BC5-9FD6-F07C58C1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C28-D750-4182-9A1C-2B03D431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9A2-B10D-494B-A43D-4C485D9F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5FCEA-D315-433E-A2A2-F223D9EEDC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